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854-8F6C-4223-9001-BF21515B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21F-CAC3-4BA3-8B6A-0224CEB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656-53DF-4E52-9848-3D9ED69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092-2EEF-4F3B-9885-DD119013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E89-178A-4BA9-8178-0B861DA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AAEB-E1E2-45BF-9FB5-6E9AC5E7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D99-B652-472D-91DF-9B515BD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BE8-8293-43F5-9CEA-0256651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6011-4426-429C-9B2E-3838F75C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ED85-15F7-421D-B903-6544E8D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A228-C378-4229-9B89-2EB6E54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0CC-6366-44D6-9504-F1CC68DC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32C-1C91-4A97-A0F2-359FAD7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79D5-3393-4A36-971D-EA8A62B7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174-DC7A-40DA-9F7C-FC86572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516-72A5-4F93-8A0D-B231781E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1AF5-C4BD-479D-876D-494F0373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779-EA79-44EC-99C1-870FFE8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AF2-B92A-4FBB-8DF2-D641BFA1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CAF-646E-4875-9027-B239A54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AA9-6640-454B-BFE8-62B3980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633-19B1-45AE-85F3-9EAE833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7F2-1871-4121-AB5B-0EEA517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D11-C7B9-4AAC-B14B-0465582C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D67-F406-47A1-86BC-B9B67CD9FF8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FB1-5B64-432A-82F8-2D8408B6868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328680" y="523800"/>
            <a:ext cx="10374480" cy="434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73915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rade Six  S.Y. : 2011- 2012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Room 101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s. Dainalyn M. Diambra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urriculum Preview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384120" y="30240"/>
            <a:ext cx="5029200" cy="201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imple Sen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mplex Sen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king an ess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per ways i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elivering a speec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ou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940360" y="533520"/>
            <a:ext cx="2784600" cy="281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410080" y="3733920"/>
            <a:ext cx="29322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12600" y="73080"/>
            <a:ext cx="636444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360" y="1693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rea and Volume formula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rac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ystems of Equ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Integer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adic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ercentag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cimal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010200" y="1371600"/>
            <a:ext cx="2676600" cy="2676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4267080" cy="2133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6600" y="274680"/>
            <a:ext cx="5761080" cy="14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Mixtur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nimal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lan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ystems in the bod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cientific Metho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Ecolog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481720" y="685800"/>
            <a:ext cx="34336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-103320" y="201600"/>
            <a:ext cx="7631280" cy="1670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Basic acrobatic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Danc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Dual spo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Team spo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Martial art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Program Files\Microsoft Office\MEDIA\CAGCAT10\j0199036.wmf"/>
          <p:cNvPicPr/>
          <p:nvPr/>
        </p:nvPicPr>
        <p:blipFill>
          <a:blip r:embed="rId2"/>
          <a:stretch/>
        </p:blipFill>
        <p:spPr>
          <a:xfrm>
            <a:off x="6291360" y="1371600"/>
            <a:ext cx="2819160" cy="33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AGCAT10\j0301480.wmf"/>
          <p:cNvPicPr/>
          <p:nvPr/>
        </p:nvPicPr>
        <p:blipFill>
          <a:blip r:embed="rId3"/>
          <a:stretch/>
        </p:blipFill>
        <p:spPr>
          <a:xfrm>
            <a:off x="4419720" y="4681440"/>
            <a:ext cx="287964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85680" y="201600"/>
            <a:ext cx="7096320" cy="167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86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Good Values in lif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ndigenous Peop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elig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Morality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944960" y="1579680"/>
            <a:ext cx="385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054760" y="3952800"/>
            <a:ext cx="3743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4:17:43Z</dcterms:created>
  <dc:creator>DELL</dc:creator>
  <dc:description/>
  <dc:language>en-US</dc:language>
  <cp:lastModifiedBy>DELL</cp:lastModifiedBy>
  <dcterms:modified xsi:type="dcterms:W3CDTF">2011-10-06T01:47:20Z</dcterms:modified>
  <cp:revision>11</cp:revision>
  <dc:subject/>
  <dc:title>CURRICULUM PREVIEW  FOR GRADE SIX</dc:title>
</cp:coreProperties>
</file>